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2B5-F127-4A9B-8459-F7F77FF8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A1D-D7ED-4140-B15D-420C9F05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6D1CA-6D57-4B28-AF3D-6F9C6B3B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5CDA-E9F0-447E-BD07-2152BB39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45949-7758-4647-A786-3B578853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CBD41-1C78-4E7A-B1DB-48319376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55E29-5FB1-40F7-8476-EBAFFB18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6563C-CBDB-4D60-9698-B32AD4F3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5A0DA-A2D7-40DF-988C-59C1D5B6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8E5B7-A449-4106-9D4C-77EF6D95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DEF30-E8F2-41CB-9DB0-EA80B130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45C-4C30-439F-A72E-B775C979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63F-1CF2-4A29-B098-A0BD48A3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2FD6-D22F-4FCD-B214-35E7497E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7216-F0A8-442F-8C69-3232F8EE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A583-DB0D-4CC0-A2CC-322D16A7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E3BB-9044-46D6-A51E-74BEE4CF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6CDB-7BDD-4191-A48D-0E894C60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3731-DFC1-4F4D-8A3C-ADBB6C47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7454-7F9F-4056-B9CB-76991118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1E0-B3A1-46CC-8EF4-964BDC8E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8C9D-2637-4975-B825-90B2E879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F7BA-AFE1-4552-B70D-752F7FF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2BEA-B9B3-4625-9E73-762C6698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95B6-5A8B-4038-9D10-00B52217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79C5-874E-4430-A4A1-B0BDDD6F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2C72-FB17-4FC9-82B7-D95038D7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F9C8-1BA8-439D-BE66-05C7CC1C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F25D-6843-46B1-9C91-38868DE6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FDDD-37E5-4BF6-B612-2CE28E26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07FA-564F-466D-B7B2-23509CB7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E3B-EB82-4705-AFC6-ABE12E37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2BA9-CF68-4533-8CAF-E336CF88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F94C-22C5-423E-8D1A-51E772D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DA5D-752B-4EC7-9390-F1860B98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906F-7037-4D44-B238-B0C0A5F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8C70B-3255-410D-A1B9-841D672E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3BF5-B5EC-4965-9F1A-3B219E81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B3CD-C63B-4157-A4BE-CF97E496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3F05-172A-457B-8583-7A452178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CA2B-D957-49FF-B127-FC99E992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1BA7-50AD-4791-AB27-1823FFDC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5C8-6C4B-40C9-BD39-99020A45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6CF7-D230-4679-AB11-442AD46C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0229-AADA-4119-9514-1A4F7416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0289-C723-4561-B1CF-9CF84F2E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CFB0-9AAB-4705-9878-7AFEBF67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CC28-4847-4E13-A128-CE9B95F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FD66-ED6F-419D-B687-98C719DF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AB7F-9730-4F21-8C9B-EEA05EE7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9844-4D69-4C23-8CCE-42FCF3EF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C6BB-D3FE-4B2C-A34D-4A610D10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404FF-C90B-45EF-A4D0-2660BEC5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7B1-38FC-4C90-B8E1-73286E60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52841-1305-47B4-ABBB-5A006066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04F28-0107-46C4-846E-17EA8B32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1EB2-1AA2-440A-BC90-1F771B38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B749-6A13-415F-ADA3-A92A1A8F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785C-E719-4870-87BF-C8E7B4E3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F166-E31A-4277-9DA0-73C569C1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ED03F-B061-4AB8-931D-E854824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4B1A0-415D-42CB-904F-611ECFF6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F463-1505-47E5-9C11-C6791482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FD434-D74D-499D-A575-5AC16984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045-6991-45CB-ABD3-C8AFEBDC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383B-8C53-41FA-A0FB-8659ACB4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3C520-291B-439D-A464-E623D469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153C5-F19D-4FAF-ACA4-C6C4AB76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FF2C-79AA-4E71-827E-D68297BC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6F339-CF30-4DDC-962A-D905BBF2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25925-D3E0-42AC-AA96-E3E6638F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1478-B30F-4B01-9EEE-0AEA6E9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3AB9B-6930-477E-A675-7BFA026A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44B14-E1CE-4451-99A6-58AD0D7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2E43-9EF8-437E-9022-BBB43F16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9E5-AA99-4445-9CC0-A1061AD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A26F0-A93B-4245-83D4-CB3D9C70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E6173-2202-406A-88C5-65A82C3D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3DEB0-12C6-4E22-B372-FDB44DAD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AB0E2-7D98-496D-8B5A-962113E1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2193-B654-490D-A309-47A25DB2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58A1B-3E35-45CF-B9F3-ACD78084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4E16B-0499-4616-839A-619DC3DE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DD113-07EC-408A-9949-BBE2F02A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CE68E-A714-4F5F-966D-BBCFF1A4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6F59-BDF4-4D31-8E19-1CE59A8D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490-EB83-419A-BABC-C5706551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39294-A26A-4662-B3C6-68E31DB0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4242E-2801-4303-838D-23F5805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874F-F66F-437F-A458-B0BA7075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92C69-74A7-4F8C-B081-A11C4E47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F7351-36B2-4D7B-AE00-94D6B441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EE306-70C1-4A1E-B266-A35A2CBA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F0231-B401-4EBE-82AA-3FA4C24C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50A8B-8957-454E-8FC8-4199FC7F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665F6-E96E-4308-9F3E-AF0921E8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D03A6-E1B6-451B-8B3E-79A40899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CAE-75A3-4508-B0A0-DEC95A6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3C620-0275-47DC-850F-9EE64976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9CC97-5CC6-43C6-8561-E795443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2C970-9FCA-41A2-9B96-D9816AA1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04CE6-CEA0-4BAC-827B-AC2B735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C818-D531-42E7-8FDE-CDC3218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24F9-5BB3-4813-A006-56BE6E9F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56814-005D-473B-A6E1-8A98CEDA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272B6-76B5-462A-BD86-723374E9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D937B-5AC2-4519-92A2-F12CCBBB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920E3-8498-4071-9922-1FB083F3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Click to edit the title text format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B423-1AC2-4851-AD54-C61202EA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BCF4-3311-4C34-A70F-D16C5169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C946-AAA1-42A5-9466-95F8BB3E0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9476-7952-422A-9004-DBE78F647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A95C-5C60-43AC-B69B-BABE707C9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4309-C51C-47AD-8C71-509BCCB0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8CE5-069B-4590-B7B3-722CA7496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14D-549E-4441-8F3B-15F27C5C8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ACBA-4DD9-4D48-8523-4F25F6E38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2.4: linear inequalities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8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X-intercept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33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so that f(x)&lt;0.  X intercept becomes the turning point for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&gt;2x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&gt;3x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867280" y="3505320"/>
            <a:ext cx="2719440" cy="279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Your assignment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21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4-1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-4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4, 48, 64, 68, 86, 88,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Objectives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33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basic vocabulary related to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terval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linear inequalities symbolically, numerically, and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compound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Vocabulary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44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quality: compares two items using &lt;, &gt;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, or 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x&gt;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form of linear inequality: ax+b&g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 set: values that make an inequality a tru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und inequality: two inequalities connected by “and” or “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&gt; 5 or x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1&lt;x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1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bound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if not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if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f not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if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gt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xtends towa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a, ∞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xtends toward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-∞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2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3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xtends towa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[a, 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xtends towards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-∞, 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x&l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≤x≤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3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39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b) is called an ope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b] or [a, b) is called a half-ope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, b] is called a closed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∞ or -∞ is involved, it is an infinit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Symbolic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76520" y="2332080"/>
            <a:ext cx="73152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 the algebraic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same way you would solve a linear equation, except that if you multiply or divide by a negative, you must switch the direction of the inequality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x+1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 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Numerical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56386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hart to find the values greater than, less than, and equal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&gt;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1&lt;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629400" y="2666880"/>
          <a:ext cx="2057400" cy="3733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Graphical solution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r inequality as f(x)&gt;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(x) and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&gt;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&lt;x+1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867280" y="3048120"/>
            <a:ext cx="2719440" cy="279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3:45:50Z</dcterms:created>
  <dc:creator>nuhs</dc:creator>
  <dc:description/>
  <dc:language>en-US</dc:language>
  <cp:lastModifiedBy>nuhs</cp:lastModifiedBy>
  <dcterms:modified xsi:type="dcterms:W3CDTF">2008-01-18T21:26:30Z</dcterms:modified>
  <cp:revision>4</cp:revision>
  <dc:subject/>
  <dc:title>2.4: linear inqualities</dc:title>
</cp:coreProperties>
</file>